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593B-588E-45B0-9C74-12770941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3A9-B7B3-4B5E-9EC8-0F9E1F86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A81-751C-4A40-9705-E229ECE5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379-2557-4018-ADA2-567C7F08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E50-D489-4B36-8C0B-0BA25430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4EB-391E-4F68-B3F9-255D2E9F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14F-645C-41BE-9048-B460B8BE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7DB-24B8-49E1-AE77-983F4041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435F-9530-40EB-83AD-98C4681E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70B-FD27-423D-BD8C-AFB95419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0FD-89F4-43EE-963A-CEC20311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1D01-34F2-4B03-BB60-3A145293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DCDE-0829-415E-8E34-F901BF1534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2431800"/>
            <a:ext cx="85345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esson22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avel on the Interne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80880" y="914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八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06360" y="76320"/>
            <a:ext cx="8532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ill in the blanks with the correct forms of the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ords in the bo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The father walked into the house. His son _________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I was on vacation last week and I didn'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your l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The rain will be a _______ for the far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He will never________ his dream if he doesn't work h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You will change your mind when you ______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2360" y="1219320"/>
            <a:ext cx="70099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alize  receive   grow   follow   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2800" y="345924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09480" y="2489040"/>
            <a:ext cx="16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735000" y="3886200"/>
            <a:ext cx="15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3200760" y="441972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33160" y="5897520"/>
            <a:ext cx="10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609480" y="2592360"/>
            <a:ext cx="8077320" cy="170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Retell the story!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2"/>
          <p:cNvSpPr/>
          <p:nvPr/>
        </p:nvSpPr>
        <p:spPr>
          <a:xfrm>
            <a:off x="152280" y="322200"/>
            <a:ext cx="87631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day, Jane ____some bad news. Her grandma had ____ ____ ____ ____ ____.She was very sad. Her grandma had a dream of ____ ____ ____ ____. She wanted to ____her ____it. The next day , Jane told people____ ____ ____ online and posted grandma’s pictures on a blog. After a few days , many people began____ ____ ____ ____, They began posting pictures of Grandma____ ____ ____ ____ ____ ____.They also sent ____ ____ and____ ____ with every pic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ndma was____ ____ when she saw the pictures. ____Jane ____ her grandma w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 ____ that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601640"/>
            <a:ext cx="8077320" cy="16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2286000"/>
            <a:ext cx="8229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ppose you see Jane’s blog on the Internet. You want to help Jane realize her grandma’s dream. What would you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2895480" y="914400"/>
            <a:ext cx="2895840" cy="7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99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roject</a:t>
            </a:r>
            <a:endParaRPr b="1" lang="en-US" sz="1800" spc="1" strike="noStrike">
              <a:ln w="19080">
                <a:solidFill>
                  <a:srgbClr val="ffff99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990720" y="21744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what places would you like to put her grandma’s pi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2" descr="di2.jpg"/>
          <p:cNvPicPr/>
          <p:nvPr/>
        </p:nvPicPr>
        <p:blipFill>
          <a:blip r:embed="rId1"/>
          <a:stretch/>
        </p:blipFill>
        <p:spPr>
          <a:xfrm>
            <a:off x="685800" y="1295280"/>
            <a:ext cx="3657600" cy="24386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3" descr="di4.jpg"/>
          <p:cNvPicPr/>
          <p:nvPr/>
        </p:nvPicPr>
        <p:blipFill>
          <a:blip r:embed="rId2"/>
          <a:srcRect l="0" t="0" r="0" b="5504"/>
          <a:stretch/>
        </p:blipFill>
        <p:spPr>
          <a:xfrm>
            <a:off x="4495680" y="1295280"/>
            <a:ext cx="3505320" cy="243864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4" descr="di5.jpg"/>
          <p:cNvPicPr/>
          <p:nvPr/>
        </p:nvPicPr>
        <p:blipFill>
          <a:blip r:embed="rId3"/>
          <a:srcRect l="0" t="6165" r="0" b="5102"/>
          <a:stretch/>
        </p:blipFill>
        <p:spPr>
          <a:xfrm>
            <a:off x="685800" y="3962520"/>
            <a:ext cx="3581280" cy="25318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5" descr="di.jpg"/>
          <p:cNvPicPr/>
          <p:nvPr/>
        </p:nvPicPr>
        <p:blipFill>
          <a:blip r:embed="rId4"/>
          <a:stretch/>
        </p:blipFill>
        <p:spPr>
          <a:xfrm>
            <a:off x="4419720" y="3962520"/>
            <a:ext cx="3504960" cy="253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609480" y="533520"/>
            <a:ext cx="82328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 would you say to her grandma?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nking of you today and hoping tha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y soon you'll be back in top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t better soon and stay well for g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 the joy and happiness around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day and alw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shing you a quick return to good heal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笑脸 1"/>
          <p:cNvSpPr/>
          <p:nvPr/>
        </p:nvSpPr>
        <p:spPr>
          <a:xfrm>
            <a:off x="689040" y="1523880"/>
            <a:ext cx="492120" cy="48600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689040" y="2971800"/>
            <a:ext cx="50652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2"/>
          <a:stretch/>
        </p:blipFill>
        <p:spPr>
          <a:xfrm>
            <a:off x="689040" y="3733920"/>
            <a:ext cx="506520" cy="493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3"/>
          <a:stretch/>
        </p:blipFill>
        <p:spPr>
          <a:xfrm>
            <a:off x="689040" y="5221440"/>
            <a:ext cx="5065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Love our parents, grandparents and frie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 If other people are in trouble , we should try our best to help th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 To love is to give, not only rece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2895480" y="914400"/>
            <a:ext cx="2895840" cy="7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99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Sum up</a:t>
            </a:r>
            <a:endParaRPr b="1" lang="en-US" sz="1800" spc="1" strike="noStrike">
              <a:ln w="19080">
                <a:solidFill>
                  <a:srgbClr val="ffff99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Retell the story to your classmate in Englis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 Remember the new words and phrases in the tex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Find more stories about helping others by using the Intern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3"/>
          <p:cNvSpPr txBox="1"/>
          <p:nvPr/>
        </p:nvSpPr>
        <p:spPr>
          <a:xfrm>
            <a:off x="2895480" y="762120"/>
            <a:ext cx="2895840" cy="75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99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Homework</a:t>
            </a:r>
            <a:endParaRPr b="1" lang="en-US" sz="1800" spc="1" strike="noStrike">
              <a:ln w="19080">
                <a:solidFill>
                  <a:srgbClr val="ffff99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0861e3a91cb5d768"/>
          <p:cNvPicPr/>
          <p:nvPr/>
        </p:nvPicPr>
        <p:blipFill>
          <a:blip r:embed="rId1"/>
          <a:stretch/>
        </p:blipFill>
        <p:spPr>
          <a:xfrm>
            <a:off x="228600" y="228600"/>
            <a:ext cx="2971800" cy="312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d3e7c87e1a5128bd_i"/>
          <p:cNvPicPr/>
          <p:nvPr/>
        </p:nvPicPr>
        <p:blipFill>
          <a:blip r:embed="rId2"/>
          <a:stretch/>
        </p:blipFill>
        <p:spPr>
          <a:xfrm>
            <a:off x="228600" y="3429000"/>
            <a:ext cx="2971800" cy="3048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3430440" y="4952880"/>
            <a:ext cx="208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yrami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gy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bc01be2ad78f6da9"/>
          <p:cNvPicPr/>
          <p:nvPr/>
        </p:nvPicPr>
        <p:blipFill>
          <a:blip r:embed="rId3"/>
          <a:stretch/>
        </p:blipFill>
        <p:spPr>
          <a:xfrm>
            <a:off x="5867280" y="228600"/>
            <a:ext cx="3022560" cy="304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edd86196eeebaa2d"/>
          <p:cNvPicPr/>
          <p:nvPr/>
        </p:nvPicPr>
        <p:blipFill>
          <a:blip r:embed="rId4"/>
          <a:srcRect l="0" t="6448" r="0" b="4053"/>
          <a:stretch/>
        </p:blipFill>
        <p:spPr>
          <a:xfrm>
            <a:off x="5867280" y="3352680"/>
            <a:ext cx="3048120" cy="3200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64d3ea89b8a486b8"/>
          <p:cNvPicPr/>
          <p:nvPr/>
        </p:nvPicPr>
        <p:blipFill>
          <a:blip r:embed="rId5"/>
          <a:srcRect l="0" t="0" r="0" b="5550"/>
          <a:stretch/>
        </p:blipFill>
        <p:spPr>
          <a:xfrm>
            <a:off x="2743200" y="1752480"/>
            <a:ext cx="3505320" cy="315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789120" y="525780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ne’s grandm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3675240" y="5257800"/>
            <a:ext cx="50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d a terrible type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c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7" descr="2.jpg"/>
          <p:cNvPicPr/>
          <p:nvPr/>
        </p:nvPicPr>
        <p:blipFill>
          <a:blip r:embed="rId1"/>
          <a:stretch/>
        </p:blipFill>
        <p:spPr>
          <a:xfrm>
            <a:off x="703440" y="1328760"/>
            <a:ext cx="3276360" cy="37447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9" descr="t01f724b61fca83b78b.jpg"/>
          <p:cNvPicPr/>
          <p:nvPr/>
        </p:nvPicPr>
        <p:blipFill>
          <a:blip r:embed="rId2"/>
          <a:stretch/>
        </p:blipFill>
        <p:spPr>
          <a:xfrm>
            <a:off x="4075200" y="1104840"/>
            <a:ext cx="4478400" cy="39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63920" y="685800"/>
            <a:ext cx="2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214200" y="121932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Who did Jane grow up with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What did Jane go online to tell people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xt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In the last picture, where was Jane’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ndma stand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"/>
          <p:cNvSpPr/>
          <p:nvPr/>
        </p:nvSpPr>
        <p:spPr>
          <a:xfrm>
            <a:off x="261360" y="533520"/>
            <a:ext cx="83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ad the lesson and answer the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638280" y="1752480"/>
            <a:ext cx="61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Times New Roman"/>
              </a:rPr>
              <a:t>She grew up with her grand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607320" y="3481560"/>
            <a:ext cx="42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Times New Roman"/>
              </a:rPr>
              <a:t>Her grandma’s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627120" y="5181480"/>
            <a:ext cx="61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Times New Roman"/>
              </a:rPr>
              <a:t>In front of Big Ben in Engl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39480" y="1600200"/>
            <a:ext cx="891684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What’s the bad news about Jane’s grand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What is Grandma’s dre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What did Jane find on her bl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53172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Paragraph1, 2, 3 again and answer the 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618480" y="2158920"/>
            <a:ext cx="574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She had a terrible type of can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634680" y="3301920"/>
            <a:ext cx="69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Her dream is to travel around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531720" y="44496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She found people posted pictures of Grandma visiting places all over the world along with their blessings and warm wis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152280" y="5045040"/>
            <a:ext cx="518184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st wishes to you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ish you a long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5410080" y="982800"/>
            <a:ext cx="3684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ane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pi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 Grandma visiting places all over the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also sent their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400800" y="982800"/>
            <a:ext cx="18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cie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500160" y="426708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less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edd86196eeebaa2d"/>
          <p:cNvPicPr/>
          <p:nvPr/>
        </p:nvPicPr>
        <p:blipFill>
          <a:blip r:embed="rId1"/>
          <a:srcRect l="0" t="7696" r="0" b="4563"/>
          <a:stretch/>
        </p:blipFill>
        <p:spPr>
          <a:xfrm>
            <a:off x="152280" y="625320"/>
            <a:ext cx="5181840" cy="432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-20520"/>
            <a:ext cx="853596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sten and put the pictures in the correct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((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edd86196eeebaa2d"/>
          <p:cNvPicPr/>
          <p:nvPr/>
        </p:nvPicPr>
        <p:blipFill>
          <a:blip r:embed="rId1"/>
          <a:srcRect l="0" t="7696" r="0" b="4563"/>
          <a:stretch/>
        </p:blipFill>
        <p:spPr>
          <a:xfrm>
            <a:off x="533520" y="1068480"/>
            <a:ext cx="2647800" cy="2208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0861e3a91cb5d768"/>
          <p:cNvPicPr/>
          <p:nvPr/>
        </p:nvPicPr>
        <p:blipFill>
          <a:blip r:embed="rId2"/>
          <a:stretch/>
        </p:blipFill>
        <p:spPr>
          <a:xfrm>
            <a:off x="3354480" y="1066680"/>
            <a:ext cx="2514600" cy="2257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bc01be2ad78f6da9"/>
          <p:cNvPicPr/>
          <p:nvPr/>
        </p:nvPicPr>
        <p:blipFill>
          <a:blip r:embed="rId3"/>
          <a:stretch/>
        </p:blipFill>
        <p:spPr>
          <a:xfrm>
            <a:off x="6022800" y="1066680"/>
            <a:ext cx="2665440" cy="2287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d3e7c87e1a5128bd_i"/>
          <p:cNvPicPr/>
          <p:nvPr/>
        </p:nvPicPr>
        <p:blipFill>
          <a:blip r:embed="rId4"/>
          <a:stretch/>
        </p:blipFill>
        <p:spPr>
          <a:xfrm>
            <a:off x="4724280" y="3886200"/>
            <a:ext cx="2667240" cy="2362320"/>
          </a:xfrm>
          <a:prstGeom prst="rect">
            <a:avLst/>
          </a:prstGeom>
          <a:ln w="0">
            <a:noFill/>
          </a:ln>
        </p:spPr>
      </p:pic>
      <p:sp>
        <p:nvSpPr>
          <p:cNvPr id="75" name="TextBox 8"/>
          <p:cNvSpPr/>
          <p:nvPr/>
        </p:nvSpPr>
        <p:spPr>
          <a:xfrm>
            <a:off x="5715360" y="624852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2895840" y="624852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6937200" y="335268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 flipH="1">
            <a:off x="4191120" y="3352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1298160" y="335268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049560" y="6095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64d3ea89b8a486b8"/>
          <p:cNvPicPr/>
          <p:nvPr/>
        </p:nvPicPr>
        <p:blipFill>
          <a:blip r:embed="rId5"/>
          <a:srcRect l="0" t="0" r="0" b="5550"/>
          <a:stretch/>
        </p:blipFill>
        <p:spPr>
          <a:xfrm>
            <a:off x="1905120" y="3886200"/>
            <a:ext cx="2666880" cy="2330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5"/>
          <p:cNvSpPr/>
          <p:nvPr/>
        </p:nvSpPr>
        <p:spPr>
          <a:xfrm>
            <a:off x="1449360" y="3200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4345200" y="3200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7088400" y="3200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5869080" y="6095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213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uess: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id Grandma say when Jane showed her the pic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685800" y="320040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Times New Roman"/>
              </a:rPr>
              <a:t>This is  wonderful! Thank you and all of those people. You have made my dream come tru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ad the text again and write ‘T’ or ‘F’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61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Jane’s grandma’s illness makes her very sad.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Jane wanted to help her grandma make dream come true, but she didn’t know what to do.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Jane received many pictures of Grandma, some of the pictures have blessings and warm wishes on them.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Both Jane and her grandma would remember that day.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449360" y="1752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220400" y="29718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430080" y="42670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211480" y="5181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8"/>
          <p:cNvGrpSpPr/>
          <p:nvPr/>
        </p:nvGrpSpPr>
        <p:grpSpPr>
          <a:xfrm>
            <a:off x="6094440" y="1905120"/>
            <a:ext cx="2743200" cy="990360"/>
            <a:chOff x="6094440" y="1905120"/>
            <a:chExt cx="2743200" cy="990360"/>
          </a:xfrm>
        </p:grpSpPr>
        <p:sp>
          <p:nvSpPr>
            <p:cNvPr id="96" name="Oval 16"/>
            <p:cNvSpPr/>
            <p:nvPr/>
          </p:nvSpPr>
          <p:spPr>
            <a:xfrm flipH="1">
              <a:off x="6094440" y="1980720"/>
              <a:ext cx="2743200" cy="53316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7"/>
            <p:cNvSpPr/>
            <p:nvPr/>
          </p:nvSpPr>
          <p:spPr>
            <a:xfrm>
              <a:off x="6324840" y="190512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knew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8"/>
            <p:cNvSpPr/>
            <p:nvPr/>
          </p:nvSpPr>
          <p:spPr>
            <a:xfrm flipV="1">
              <a:off x="6858720" y="2514600"/>
              <a:ext cx="684000" cy="3808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Line 12"/>
          <p:cNvSpPr/>
          <p:nvPr/>
        </p:nvSpPr>
        <p:spPr>
          <a:xfrm>
            <a:off x="4952880" y="3048120"/>
            <a:ext cx="1219320" cy="28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6019920" y="3048120"/>
            <a:ext cx="1218960" cy="28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4"/>
          <p:cNvGrpSpPr/>
          <p:nvPr/>
        </p:nvGrpSpPr>
        <p:grpSpPr>
          <a:xfrm>
            <a:off x="1523880" y="2819520"/>
            <a:ext cx="3890880" cy="1218600"/>
            <a:chOff x="1523880" y="2819520"/>
            <a:chExt cx="3890880" cy="1218600"/>
          </a:xfrm>
        </p:grpSpPr>
        <p:sp>
          <p:nvSpPr>
            <p:cNvPr id="102" name="Oval 16"/>
            <p:cNvSpPr/>
            <p:nvPr/>
          </p:nvSpPr>
          <p:spPr>
            <a:xfrm flipH="1">
              <a:off x="2671560" y="2970360"/>
              <a:ext cx="2742840" cy="53316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7"/>
            <p:cNvSpPr/>
            <p:nvPr/>
          </p:nvSpPr>
          <p:spPr>
            <a:xfrm>
              <a:off x="3053880" y="281952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each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V="1">
              <a:off x="1523880" y="3504960"/>
              <a:ext cx="1827000" cy="5331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Line 18"/>
          <p:cNvSpPr/>
          <p:nvPr/>
        </p:nvSpPr>
        <p:spPr>
          <a:xfrm>
            <a:off x="533520" y="4343400"/>
            <a:ext cx="1066680" cy="14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2:27:41Z</dcterms:created>
  <dc:creator> </dc:creator>
  <dc:description> </dc:description>
  <dc:language>en-US</dc:language>
  <cp:lastModifiedBy>Administrator</cp:lastModifiedBy>
  <dcterms:modified xsi:type="dcterms:W3CDTF">2019-01-02T02:27:57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